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D08F-BD20-4CB5-AEBC-2D253FE49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amentality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p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00A1-780B-4158-9FCF-13D285F3FB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10C9-A318-4052-879B-E01D073425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MI (Where do I star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ogle: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nkfinity: Ch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B673-7389-4B30-8600-B8FDDF6F87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#2 Grade Level Appropri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some good websites for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rs learning al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websites are b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0774-D40F-4B66-841E-D2D545ADF3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eachers use good search skills to reduce the amount of time wasted by students working on internet related proble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5524-8E23-4FC5-A16B-B6A1A03575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D0D-C5B0-46BE-B04C-C435B405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6FD-5AE6-4CE5-BACE-C28F2B7E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400-6185-4184-8128-EEE4094C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A73-2EC1-468A-B80E-9CFDA421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E2146-FD8C-4A9A-95B0-D01062EA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DD010-EF6A-48A9-AACC-5B5C7069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15A3-6245-42FA-89BC-4354A3B0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39148-2DA6-4425-A66D-60B38863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E858F-AEDA-4EFD-85D5-963C781D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9B8D1-1D2E-4321-BD13-2E1157BE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FC4D8-5C0A-4FDB-B3A2-A0A88C9C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F76-C143-4638-8809-4AF9E25A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1E73-7217-4594-BCE1-FF2E209F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2D639-1857-4B61-B8CC-C94EB6A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6870C-D9FD-4BD3-9C3F-0C21A418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5335E-229A-4B39-BB7E-6D17754F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BA9AE-6387-41F6-82E8-A14E20A6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4B1-42E5-4638-A372-19A893CB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9A4-DB66-4D35-8AE4-4BE3C9B3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6B7-5EE4-4F0A-B451-858820A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A2E-FF62-4CA9-8356-51087E65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8CA-EFFA-4B42-9DE2-425FA73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BA3-4BFF-46AA-86A1-8A77DA04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2C0-42EA-4354-AC09-C9D0EBA2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930-AB30-415A-A3A0-B965E978D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4A94-483D-43F1-86CE-0A28570147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ts-implementation.iste.wikispaces.net/Videos+of+NETS&#8226;S+in+Actio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the Internet in the Classroo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wesome Authentic Assessment vs. Tragic Time-W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ating Cool Internet Based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rcRect l="12501" t="20889" r="13280" b="7951"/>
          <a:stretch/>
        </p:blipFill>
        <p:spPr>
          <a:xfrm>
            <a:off x="1219320" y="18288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standards drive th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an idea from your unit plan review for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Documents and Settings\afante01\My Documents\My Pictures\Microsoft Clip Organizer\j0236335.gif"/>
          <p:cNvPicPr/>
          <p:nvPr/>
        </p:nvPicPr>
        <p:blipFill>
          <a:blip r:embed="rId1"/>
          <a:stretch/>
        </p:blipFill>
        <p:spPr>
          <a:xfrm>
            <a:off x="3733920" y="3733920"/>
            <a:ext cx="2666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st Practices vs. Technology Showc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 curricular example where the following technologies would not be appropri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g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572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Create an “Emotional”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zation (Share Examp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tainment (Share something fun you do on-line…how could this be a lesson?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ly Driven  (Adds learning sty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http://ihasahotdog.wordpress.com/files/2009/08/funny-dog-pictures-hear-awesome.jpg"/>
          <p:cNvPicPr/>
          <p:nvPr/>
        </p:nvPicPr>
        <p:blipFill>
          <a:blip r:embed="rId1"/>
          <a:stretch/>
        </p:blipFill>
        <p:spPr>
          <a:xfrm>
            <a:off x="2057400" y="13716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Real world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(Math S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rog and Toad Surve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Documents and Settings\afante01\Local Settings\Temporary Internet Files\Content.IE5\IPW9A5CV\MCj04398230000[1].png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“Doable” assignments – Make a sampl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fante01\Local Settings\Temporary Internet Files\Content.IE5\I72L4Z0J\MPj04386750000[1].jpg"/>
          <p:cNvPicPr/>
          <p:nvPr/>
        </p:nvPicPr>
        <p:blipFill>
          <a:blip r:embed="rId1"/>
          <a:stretch/>
        </p:blipFill>
        <p:spPr>
          <a:xfrm>
            <a:off x="3352680" y="2590920"/>
            <a:ext cx="2822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blem #1: T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http://sidoxia.files.wordpress.com/2010/01/information-overload.jpg"/>
          <p:cNvPicPr/>
          <p:nvPr/>
        </p:nvPicPr>
        <p:blipFill>
          <a:blip r:embed="rId1"/>
          <a:stretch/>
        </p:blipFill>
        <p:spPr>
          <a:xfrm>
            <a:off x="1371600" y="2600280"/>
            <a:ext cx="6400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2 Grade Level Appropri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ttp://tutorsasap.com/wp-content/uploads/2008/09/algebra_tutor_baltimore.jpg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3 Poor Prep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http://www.crdailystar.com/wp-content/uploads/2010/04/home-painting.jpg"/>
          <p:cNvPicPr/>
          <p:nvPr/>
        </p:nvPicPr>
        <p:blipFill>
          <a:blip r:embed="rId1"/>
          <a:stretch/>
        </p:blipFill>
        <p:spPr>
          <a:xfrm>
            <a:off x="990720" y="1828800"/>
            <a:ext cx="711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2:38:08Z</dcterms:created>
  <dc:creator>JDavid</dc:creator>
  <dc:description/>
  <dc:language>en-US</dc:language>
  <cp:lastModifiedBy>BPS</cp:lastModifiedBy>
  <dcterms:modified xsi:type="dcterms:W3CDTF">2012-05-03T18:41:20Z</dcterms:modified>
  <cp:revision>27</cp:revision>
  <dc:subject/>
  <dc:title>Using the Internet in the Classroom: </dc:title>
</cp:coreProperties>
</file>